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DCA2-3ED0-449F-8226-B175603B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05F6-F37B-4A06-B5A3-A79E21B0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61C9-103A-40E0-BFD4-D9F927C5B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660D-ACD7-4274-8B8B-EAB4BE15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3CA7-F128-433F-8CBE-8060288A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C3CC-69C1-4B16-980F-03339D1A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EDAA-FC71-4B1E-9EC0-B7791DD3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BECD-EBA1-4471-A7CB-9AA4C334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E9E3-B611-46FA-9DEF-29101FCB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7E1D-184B-475C-8EA2-8F57CD56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AE59-304F-470E-B0A1-040B3C42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E591-0E68-41EC-B44B-2249E697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0FB1-E96C-47AB-BC4C-987DFEFD1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28760" y="1974960"/>
            <a:ext cx="4686480" cy="2914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8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0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2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4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5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6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0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3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4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5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6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7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8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30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0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02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04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05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2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28760" y="1965240"/>
            <a:ext cx="4686480" cy="2933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4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5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6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28760" y="1974960"/>
            <a:ext cx="4686480" cy="2914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7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2:25:37Z</dcterms:created>
  <dc:creator>Mark S. Spencer</dc:creator>
  <dc:description/>
  <dc:language>en-US</dc:language>
  <cp:lastModifiedBy>Mark S. Spencer</cp:lastModifiedBy>
  <dcterms:modified xsi:type="dcterms:W3CDTF">2008-12-06T16:20:46Z</dcterms:modified>
  <cp:revision>20</cp:revision>
  <dc:subject/>
  <dc:title>Slide 1</dc:title>
</cp:coreProperties>
</file>